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CD153-3825-481C-8ECB-E45BBDF37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2A9C3-3D5D-49AD-B088-1637F4CF62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EE7-200F-4FBA-A81A-776475E7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980-68D7-404D-B3E7-3D0C2B8A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901-A7A4-4C38-B5E7-CB3DAFFE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587-DEFD-41A7-9189-20AB1012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4E6-F06A-4839-B634-9F344EB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7B3-1F1D-4EDF-8904-C68C14CE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76D-A1AB-49FC-9ADD-FCC93E1B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44F-DE75-432B-8A9C-0F36B77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007-B235-4274-A687-CEAF6AE6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8A5-3839-4A2B-898F-97E66922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927-FD48-41BB-A7D8-FD807BEB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A0F-F8B6-48AC-84B1-EAD39FD1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8BD1E-693E-42FC-AE87-A8F246B33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Kursun Kapanışı ve Geri Bildiri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c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Bu oturum, katılımcıların kurs hakkında geri bildirimde bulunmalarına imkan vermeyi ve yapılabilecek her türlü iyileştirmeyi belirlemesi için eğitmene yardımcı olmayı amaçlamaktadır. Eğitmen, ayrıca hedef ve amaçlara göre kursun içeriğini yeniden özetleyecekti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Kurs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3200" y="1189080"/>
            <a:ext cx="86868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u kursun sonunda katılımcılar, aşağıdakiler dahil olmak üzere bilişim suçları soruşturmaları ile ilgili konuları değerlendirebileceklerdi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r soruşturmanın yürütül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İşlenen suçların türlerinin belirlen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Kanıtların, tanıkların ve zanlıların bulunduğu yerlerin belirlenmesi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Nerede bulunduklarına bakılmaksızın kanıtların kabul edilebilir bir şeklide muhafaza altına alın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Elektronik kanıtlarla ilgili arama ve el koyma çalışmalar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nın bir parçası olan dijital cihazlarla ilgili çalışmalar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 aşamasının desteklenmesi için gerekli olan adli bilim uzmanları ve diğer kişilere yönelik talimatla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Zanlıların sorgulanmas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lişim suçları kanıtlarının sunulmas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Adli süreç sırasında ilgili hususların değerlendirilmesi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1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s, Eğitmen ve Senaryo Hakkında Bilgi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arın belirlenmesi, bir soruşturma planı ve senaryonun hazırlanması konusu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 – Uluslararası İşbirli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lararası işbirliği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unun belirlenmesi ve bir tutuklama stratejisinin oluşturulması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2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0840" y="1417680"/>
            <a:ext cx="88664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 günün değerlendirilmesi – Tutuklama(lar) hakkında bilgi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D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jital Adli Bil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 -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ijital kanıtlar, kanıt gereksinimleri, zanlılar, yargı yetkisi ve uluslararası konular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hkeme için dosyanın hazırl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ya son şeklinin verilmesi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nın gözden geçirilmesi, eğitim ekibi ve katılımcıların açıklamaları, değerlendirme, geri bildirim ve kursun kap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 Amaçlarının Öze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OPERATOR</dc:creator>
  <dc:description>Uğur Mumucu Caddesi Kırçiçeği Sokağı No: 8/2
TR-06700 G.O.P Çankaya/ANKARA
Fax: +90-312- 441 91 0</dc:description>
  <cp:keywords>www.erenoglu.com.tr</cp:keywords>
  <dc:language>en-US</dc:language>
  <cp:lastModifiedBy>OPERATOR</cp:lastModifiedBy>
  <dcterms:modified xsi:type="dcterms:W3CDTF">2013-08-05T08:39:23Z</dcterms:modified>
  <cp:revision>41</cp:revision>
  <dc:subject>ERENOGLU CONSULTANCY, TRANSLATION AND FOREIGN TRADE LTD CO.</dc:subject>
  <dc:title>ERENOĞLU DANIŞMANLIK TERCÜMANLIK VE DIŞ TİCARET LTD. ŞTİ.</dc:title>
</cp:coreProperties>
</file>